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E66-5290-4980-853B-CDB3B134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3EF-AE29-4E23-BAC8-82AD059C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52B-BC54-457A-94DE-E42212F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C72-D795-4160-87CB-4043F7A6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D722-0387-45D4-9636-EE081437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8D3-4AAC-4732-99B9-322B8639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36AB-2D6D-474A-A3DD-435D017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FA6-99BD-4140-B923-1C19928A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DEE-54B2-4186-BE5A-F03230E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C209-AFB4-40CA-B44B-908C400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6E6E-F86C-4948-9695-A7DB5F5D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996-509F-45A4-BE54-C43B94F8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49FC-C153-47E7-833D-235F742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159-1242-44B8-B836-3C85CE6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593B-5EDC-4938-B139-E856E19F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D88-2038-477E-8174-6B40A3E8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9806-EA2E-4EBC-834B-C252B2C8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35B-B224-4DA6-A522-1831AF2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DAE-DCCE-4F61-81A3-5CC6CCC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DA7-799F-411E-8809-8DDDE35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19D-A0BE-4FBB-BEF6-C4AFC7C3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F3F-37D8-44A1-A7F8-EF01064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EF0-B670-4B97-B09E-AE93DBA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CB6-253C-4C46-8B4D-59AA903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CA3-F53D-4792-A923-92479D03FF2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5FB3-8166-4AD3-B45D-6AA9540F4E6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to the Wil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n Krakau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. W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asons why to read this boo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 detai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see what is going on in your mi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feel the same feelings that the characters ha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ictures for read-alou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58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6019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430200"/>
            <a:ext cx="66294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03:33Z</dcterms:created>
  <dc:creator>cysd</dc:creator>
  <dc:description/>
  <dc:language>en-US</dc:language>
  <cp:lastModifiedBy>Tiffany Brewer</cp:lastModifiedBy>
  <dcterms:modified xsi:type="dcterms:W3CDTF">2008-11-25T23:13:23Z</dcterms:modified>
  <cp:revision>5</cp:revision>
  <dc:subject/>
  <dc:title>Into the Wild By: Jon Krakauer</dc:title>
</cp:coreProperties>
</file>